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20BBC6-656A-4DE3-8380-DC8EE46F2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A61A94-F367-4E8B-B9E0-448F10BE3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C83C1A-9AF4-40DF-963B-76D99E479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2EE936-B875-4F51-8DE3-4938D09A0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2D22B5-FBDD-4BE1-A1F5-4DD0D0B34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615A8E-0CE9-49BE-AF55-EFEDDFA37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9321E9-8912-431C-B9C8-29A604AEE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124AAB-BF85-4277-9A9E-A2FE4F7D7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8EC1F6-3421-4711-87D0-34EB0DB90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749A2F-9C3B-4912-8AEF-4EBD3A194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FB9464-A7B5-4EED-8498-C1174BF39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87E754-D3C5-4E9A-B5A4-4512054C2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F6DEA5-65BE-4813-A1B4-314CC468C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546400-9E73-4148-9B4F-A437BE0C4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5AA8AF-B2C9-4952-B3D0-F8B2CEB60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0651A7-67BF-4439-8E4C-EF2D39F09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B6E882-6137-4972-ACFF-9828EB315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23B28B-2B65-4813-A264-9DB8DC369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0CE7C0-1031-4952-B854-DD3436A3D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53CEE7-F417-4E86-927E-FCBA1D803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64475E-353E-403C-B0D9-85AC39DE1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83D885-28F5-4B5C-904E-63E1FC56A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58AEBD-FBC8-4F06-8DFC-48CC16063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CF7C48-8F5D-4214-8AD5-1B0D101CD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B9C007-4D6B-4CC6-A265-878D19B49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E4402A-9D9C-44B1-A442-AD6C16F25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8E1507-C75D-431C-BF99-D76694217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A9C74E-548D-4951-8B4D-FA436F167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40FEDF-9A91-48C2-A100-9BCC13ECC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86B44A-E76E-4CF0-8079-9B2337FBF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F4A5-A833-4F64-93DD-DBB69296D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7CCFF0-B8DF-4570-9322-2E7C8E1EF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7F5925-D2EC-47F4-B19F-B26EF0EA8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DE19D0-4316-4849-9F61-7D73AE505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63189C-3D6C-4748-AE36-81CDF203A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CC7CD9-A5C8-4B5E-BB70-3FF429B43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063671-DE27-48D0-971C-E4106D7D7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E3A409-56F4-400C-B39B-8DBB2C10F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C004D2-249C-44F9-848E-778816B33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5B2C4E-03C1-4BBC-A17E-17374D9E8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88F36D-12C3-4850-B853-5C8665937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2EAE-8377-4733-A8A7-B2F034886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70EB88-1536-4C4C-9049-C5E917CAF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19AB8B-BF58-4422-94E7-AEA4140D0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BCCC99-5806-4BB4-9463-78E054038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1D9D54-31A6-4BCB-B88D-C397AF6EA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38214D-278C-453C-8BA9-B5C1946E2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5D99-605D-4AF7-818A-320951CCD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3E34-D5BC-4B03-97A1-89DA637DC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4172-D214-4F3E-9002-D5CB9FBF7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A48E-61F9-41FC-9B92-DB6E71F8F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B2E7-7816-4693-92F5-16BFD5C66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0545-8907-4F6B-B0FC-204A04650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A3B8-EC88-487C-B934-6F4CBC1EB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EDC1-9DF7-41A0-84B0-B682A6602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38E5-E496-49A8-A5D4-34149981A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5249-3F75-492A-95DC-6DB471162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AF6BA-C7C2-433E-A549-F789509B2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C77FC-C8CA-4E39-9053-2618F9C8E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6E9AA-7910-4391-918D-23878C518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C86E5-969A-43CB-B0DD-6B558390C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2A745-472C-4F19-9D81-AE9FA26FA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4A78D-3B31-4BE0-BB23-553DE5A8B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F4439-79EA-454F-BC7F-A662AEB9A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ED164-0E16-4035-A0C2-38C98CFD3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8C9BD-363A-43A3-B551-6508A41EB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A937B-3A56-4B6F-AF00-FA2A8D4A3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72482-935E-4DC6-BE37-346A0AFB5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C9A9F-16AC-4840-9508-08092E5C9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7294B9-BD4B-4B33-916D-80B9CA29B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841A63-11F1-4FEA-826F-ED01F67FF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92FDF6-BC0A-4AC3-B229-41F6A3E48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7CEA77-8EBF-4408-93FC-0F73B8E0C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C921E8-3284-45A1-8909-C36016D17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1D46A7-98DF-4FA3-B71F-D800251C4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1AE709-6F1A-4DDF-977D-118045A81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1F0E4D-180D-4BEA-9782-2A1A6F8B9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2434B7-6CA0-4F4E-9784-16AEA8CDA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BACBB9-ABC7-4284-8C0E-3B1932D46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732CAF-991A-4E6A-A61A-118855A77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7D02FA-FFF3-4CB6-A8B9-4A09088B9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73611C-B70A-40C8-AC26-A77C045EF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F7C97A-0D6F-485D-AF5F-0C9E43D4B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2C2A8A-168B-4C65-848A-F229C7674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9D6960-9F24-42B4-B161-EFD2DA059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A51989-BDAC-4284-99DF-EAA484DC7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045CB4-2CF4-45CD-B814-263EA0D9E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5EB573-B0EE-42F6-8921-444D509F2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235671-13BF-4F5E-ABFB-2EC83A40E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870020-A8E7-419A-8461-9C63C9B3B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DCE20C-9149-4F4A-9553-9C5281BED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6A2140-770A-4972-83D4-757B5A22E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9EF2E5-6AD6-46BC-AB9B-E97BD8D2E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F72B83-4F05-4CA0-ACA0-EFD16B8AD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25F9EA-08AD-48B5-A86F-0A9ADCF04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BE71EB-EEE2-40F5-9F19-475D3B881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03BE3B-21B9-407C-BB4A-9039100B9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884A57-484D-4BE5-9414-9DC7D9C1D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53E151-C910-48B1-B9C5-DDE94A9AB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8F37EB-0BB0-4A47-B5B9-6331AE9C8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240860-2FFF-4A83-9E8F-F9344DDFD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A12146-32D5-4531-ADCB-C03C8A8C2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32EFA7-A874-47E1-B778-FF079B6BA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A65082-7766-4093-84AE-697517ADF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8E14FF-A07D-4D1B-B6B3-EBA349E0D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0CA929-BC08-4C46-A74A-BABA8C7AB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0786BA-EFD2-4089-911B-9D2ECD36B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BE0A7F-3580-445E-BA98-722AC1137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CA13D9-0F88-40D5-879A-F53436DF2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640CEA-2C91-4950-961B-B81271963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705664-01D5-47E8-AC45-FBA19130A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2FADB8-F73D-451E-A1A9-685EC16E6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059FE9-8439-4F4C-BE46-E55FED04C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8C4B00-CE4B-4A20-87E7-7B0EC85BE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A2B6DB-55A1-4824-8383-C73E93D03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5986EA-2F5F-4DFF-8AEB-B23044BE1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7FA9BA-70EE-4624-9356-D8139673F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EB99B7-7C58-482E-992D-BAAEE7BB7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905856-3B95-4275-9A06-D7354F8C8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006B2F-CAE5-44F5-BC15-303FCE3CB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86D9D1-E05D-4FDF-9C6C-8CAF502E0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F71B66-6F0F-47C7-B4F1-C7E671561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889814-3EC3-4D3A-9925-1BCD6221C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D9A249-A310-47C3-BE26-8DBEB6D5D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922EA6-9554-43A6-89CC-0BE9144FF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9D5FF5-67C1-43E2-9F80-4F5ED99E3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E8C2BA-8F3A-4BFB-828C-628152B1A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FEA823-DA12-49A3-9474-BA256F00D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2B368D-509A-4958-96EB-6DA56649C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D5F13C-D729-4645-85B6-CFED6212D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3FE9AC-54FF-48BF-A891-C7E8AFA38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B729B6-532C-4ECE-B051-7ABB6EFB0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61886-AD93-412D-9B47-F1BA295E0A40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796BD-24C2-4784-9AD3-AA4C14EB4B5C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B0628-D4BF-4A05-932F-E4AD115F086D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E3446-ABE8-45C9-AE01-A69A4DF3E8E4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71B0B-0263-42B2-9D2A-1B128307FDBB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FC7FF-1739-4108-8F30-4AAE4F89648B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07062-0387-4ED9-9FF3-AC00D816F27B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966ED-A880-47F1-AE20-E0C389F399E5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91181-F405-460C-B3D4-54D39E1F8F77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0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6AA95-E6A4-4408-847D-D5F814F5472F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0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CDC1F-E0BD-4929-AF95-7C25C316BBA3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Marcador de contenido 3" descr="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5975280"/>
          </a:xfrm>
          <a:prstGeom prst="rect">
            <a:avLst/>
          </a:prstGeom>
          <a:ln w="0">
            <a:noFill/>
          </a:ln>
        </p:spPr>
      </p:pic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79360" y="0"/>
            <a:ext cx="8585280" cy="6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77933c"/>
                </a:solidFill>
                <a:latin typeface="Eras Demi ITC"/>
              </a:rPr>
              <a:t>I</a:t>
            </a:r>
            <a:r>
              <a:rPr b="1" lang="es-ES_tradnl" sz="2800" spc="-1" strike="noStrike">
                <a:solidFill>
                  <a:srgbClr val="953735"/>
                </a:solidFill>
                <a:latin typeface="Calibri"/>
              </a:rPr>
              <a:t>DENTI</a:t>
            </a:r>
            <a:r>
              <a:rPr b="1" lang="es-ES_tradnl" sz="2800" spc="-1" strike="noStrike">
                <a:solidFill>
                  <a:srgbClr val="1f497d"/>
                </a:solidFill>
                <a:latin typeface="Chiller"/>
              </a:rPr>
              <a:t>DAD</a:t>
            </a:r>
            <a:r>
              <a:rPr b="1" lang="es-ES_tradnl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es-ES_tradnl" sz="2800" spc="-1" strike="noStrike">
                <a:solidFill>
                  <a:srgbClr val="604a7b"/>
                </a:solidFill>
                <a:latin typeface="Arial Narrow"/>
              </a:rPr>
              <a:t>SOCIA</a:t>
            </a:r>
            <a:r>
              <a:rPr b="1" lang="es-ES_tradnl" sz="2800" spc="-1" strike="noStrike">
                <a:solidFill>
                  <a:srgbClr val="604a7b"/>
                </a:solidFill>
                <a:latin typeface="comic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Marcador de contenido 3" descr=""/>
          <p:cNvPicPr/>
          <p:nvPr/>
        </p:nvPicPr>
        <p:blipFill>
          <a:blip r:embed="rId1"/>
          <a:stretch/>
        </p:blipFill>
        <p:spPr>
          <a:xfrm>
            <a:off x="158760" y="1670040"/>
            <a:ext cx="8997840" cy="4786200"/>
          </a:xfrm>
          <a:prstGeom prst="rect">
            <a:avLst/>
          </a:prstGeom>
          <a:ln w="0">
            <a:noFill/>
          </a:ln>
        </p:spPr>
      </p:pic>
      <p:sp>
        <p:nvSpPr>
          <p:cNvPr id="482" name="AutoShape 6"/>
          <p:cNvSpPr/>
          <p:nvPr/>
        </p:nvSpPr>
        <p:spPr>
          <a:xfrm>
            <a:off x="155520" y="-1287360"/>
            <a:ext cx="4048200" cy="26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AutoShape 8"/>
          <p:cNvSpPr/>
          <p:nvPr/>
        </p:nvSpPr>
        <p:spPr>
          <a:xfrm>
            <a:off x="155520" y="-1287360"/>
            <a:ext cx="4048200" cy="26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AutoShape 1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AutoShape 1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AutoShape 1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AutoShape 2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AutoShape 2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9" name="Picture 12" descr="http://www.campamento.lebal.es/wp-content/uploads/2011/06/Metodologia.jpg"/>
          <p:cNvPicPr/>
          <p:nvPr/>
        </p:nvPicPr>
        <p:blipFill>
          <a:blip r:embed="rId2"/>
          <a:stretch/>
        </p:blipFill>
        <p:spPr>
          <a:xfrm>
            <a:off x="324000" y="1989000"/>
            <a:ext cx="1666800" cy="90504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32" descr="http://200.116.126.171/cacvirtual/images/metodologias.png"/>
          <p:cNvPicPr/>
          <p:nvPr/>
        </p:nvPicPr>
        <p:blipFill>
          <a:blip r:embed="rId3"/>
          <a:stretch/>
        </p:blipFill>
        <p:spPr>
          <a:xfrm>
            <a:off x="36360" y="4840200"/>
            <a:ext cx="2341800" cy="1255680"/>
          </a:xfrm>
          <a:prstGeom prst="rect">
            <a:avLst/>
          </a:prstGeom>
          <a:ln w="0">
            <a:noFill/>
          </a:ln>
        </p:spPr>
      </p:pic>
      <p:pic>
        <p:nvPicPr>
          <p:cNvPr id="491" name="Imagen 4" descr=""/>
          <p:cNvPicPr/>
          <p:nvPr/>
        </p:nvPicPr>
        <p:blipFill>
          <a:blip r:embed="rId4"/>
          <a:stretch/>
        </p:blipFill>
        <p:spPr>
          <a:xfrm>
            <a:off x="623880" y="3265560"/>
            <a:ext cx="1068480" cy="1066680"/>
          </a:xfrm>
          <a:prstGeom prst="rect">
            <a:avLst/>
          </a:prstGeom>
          <a:ln w="0">
            <a:noFill/>
          </a:ln>
        </p:spPr>
      </p:pic>
      <p:sp>
        <p:nvSpPr>
          <p:cNvPr id="492" name="Rectángulo 1"/>
          <p:cNvSpPr/>
          <p:nvPr/>
        </p:nvSpPr>
        <p:spPr>
          <a:xfrm>
            <a:off x="2771640" y="6021360"/>
            <a:ext cx="62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900" spc="-1" strike="noStrike">
                <a:solidFill>
                  <a:srgbClr val="000000"/>
                </a:solidFill>
                <a:latin typeface="Calibri"/>
              </a:rPr>
              <a:t>http://es.slideshare.net/faropaideia/psicologa-social-autoconcepto-e-identidad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90288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76092"/>
                </a:solidFill>
                <a:latin typeface="Calibri"/>
              </a:rPr>
              <a:t>IDENTIDAD SOCI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20T17:10:58Z</dcterms:created>
  <dc:creator>Pamela Jaramillo</dc:creator>
  <dc:description/>
  <dc:language>en-US</dc:language>
  <cp:lastModifiedBy>Miriam Perez</cp:lastModifiedBy>
  <dcterms:modified xsi:type="dcterms:W3CDTF">2016-05-13T05:11:48Z</dcterms:modified>
  <cp:revision>374</cp:revision>
  <dc:subject/>
  <dc:title>Diapositiva 1</dc:title>
</cp:coreProperties>
</file>